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568-9894-4B47-B159-A02C4A29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B9B-B5DB-4EA1-B704-96EBE5FB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93F-777D-487C-994D-501B29BA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DC2-0EAE-4DE1-B6CA-A9BEF514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B45-CC4F-4344-994A-E10EFB19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304-CA6A-4AB4-B7AE-F4B36DA8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6D5-B7D5-42B9-998C-1AF92BD1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B3D-32B2-4F6F-9DA6-4982543A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D4C-0A9C-4F20-9E43-10BABFAA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436-445E-4313-8814-DE1350D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613-2152-44F3-9105-76533D5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6D0-631D-4E21-B216-A2F35EA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8842-5841-493C-BA04-1A2606C71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990720" y="0"/>
            <a:ext cx="6019560" cy="6858000"/>
          </a:xfrm>
          <a:prstGeom prst="upArrow">
            <a:avLst>
              <a:gd name="adj1" fmla="val 50000"/>
              <a:gd name="adj2" fmla="val 28482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92480" y="-14947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LOOM’S REVISED TAX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648160" y="685800"/>
            <a:ext cx="497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ff"/>
                </a:solidFill>
                <a:latin typeface="Calibri"/>
                <a:ea typeface="Times New Roman"/>
              </a:rPr>
              <a:t>Creat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synth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ting new ideas, products, or ways of view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9933ff"/>
                </a:solidFill>
                <a:latin typeface="Calibri"/>
                <a:ea typeface="Times New Roman"/>
              </a:rPr>
              <a:t>Designing, constructing, planning, producing, invent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581280" y="1828800"/>
            <a:ext cx="5562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Calibri"/>
              </a:rPr>
              <a:t>Evaluat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evalu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Justifying a decision or course of a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ff"/>
                </a:solidFill>
                <a:latin typeface="Calibri"/>
              </a:rPr>
              <a:t>Checking, hypothesising, critiquing, experimenting, judg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89560" y="2895840"/>
            <a:ext cx="64414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6600"/>
                </a:solidFill>
                <a:latin typeface="Calibri"/>
              </a:rPr>
              <a:t>Analys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naly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ing information into parts to explore understandings and 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6600"/>
                </a:solidFill>
                <a:latin typeface="Calibri"/>
                <a:ea typeface="Times New Roman"/>
              </a:rPr>
              <a:t>Comparing, organising, deconstructing, interrogating, fi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210200" y="3886200"/>
            <a:ext cx="424800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Apply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p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Using information in another familiar situ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ff"/>
                </a:solidFill>
                <a:latin typeface="Calibri"/>
              </a:rPr>
              <a:t>Implementing, carrying out, using, execu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692800" y="4800600"/>
            <a:ext cx="537444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00"/>
                </a:solidFill>
                <a:latin typeface="Calibri"/>
              </a:rPr>
              <a:t>Understand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comprehen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ing ideas or concep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9900"/>
                </a:solidFill>
                <a:latin typeface="Calibri"/>
                <a:ea typeface="Times New Roman"/>
              </a:rPr>
              <a:t>Interpreting, summarising, paraphrasing, classifying, expl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730320" y="5791320"/>
            <a:ext cx="49615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Remember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knowled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calling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Calibri"/>
              </a:rPr>
              <a:t>Recognising, listing, describing, retrieving, naming, fi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ict_logo_sm"/>
          <p:cNvPicPr/>
          <p:nvPr/>
        </p:nvPicPr>
        <p:blipFill>
          <a:blip r:embed="rId1"/>
          <a:stretch/>
        </p:blipFill>
        <p:spPr>
          <a:xfrm>
            <a:off x="0" y="0"/>
            <a:ext cx="1828800" cy="1231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 rot="16200000">
            <a:off x="-1740960" y="422604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pa.org/ed/new_bloom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35240" y="228600"/>
            <a:ext cx="26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loom’s Tax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evis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2"/>
          <a:stretch/>
        </p:blipFill>
        <p:spPr>
          <a:xfrm rot="16200000">
            <a:off x="-1527840" y="3584880"/>
            <a:ext cx="5638680" cy="906480"/>
          </a:xfrm>
          <a:prstGeom prst="rect">
            <a:avLst/>
          </a:prstGeom>
          <a:ln w="0">
            <a:noFill/>
          </a:ln>
        </p:spPr>
      </p:pic>
      <p:sp>
        <p:nvSpPr>
          <p:cNvPr id="53" name="Line 14"/>
          <p:cNvSpPr/>
          <p:nvPr/>
        </p:nvSpPr>
        <p:spPr>
          <a:xfrm>
            <a:off x="1752480" y="56386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752480" y="39625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52480" y="21337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34:34Z</dcterms:created>
  <dc:creator>Owner</dc:creator>
  <dc:description/>
  <dc:language>en-US</dc:language>
  <cp:lastModifiedBy>Owner</cp:lastModifiedBy>
  <dcterms:modified xsi:type="dcterms:W3CDTF">2010-03-10T04:35:07Z</dcterms:modified>
  <cp:revision>1</cp:revision>
  <dc:subject/>
  <dc:title>Slide 1</dc:title>
</cp:coreProperties>
</file>